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D46F-675A-4E29-A41C-90C6F484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169-F416-429A-931A-0347F60D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DDAE-8724-45E4-96EA-EF6ADE1F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F8A-5485-45BD-97D9-10459431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B32-22D0-4EA8-9335-E05E96DD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AFE-6AD7-4E82-8A41-E9FF8320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565-F80E-4548-918A-1A89AAD5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EB3-8FEC-4F48-9BAB-231BAF75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456-5F74-418E-A2D7-E3AB9C55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31D-5B27-41FD-B1AF-0DB45B69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A667-6727-47F7-9751-078F3731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E0D9-9393-43BD-86EB-BE5AF362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ABD03036-3A02-4157-B2B1-8F3D4D58240B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тод реш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2960" y="1216080"/>
            <a:ext cx="7488000" cy="614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00240" y="820116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0024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7188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144960" y="8201160"/>
            <a:ext cx="1704960" cy="1724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087880" y="8201160"/>
            <a:ext cx="1743120" cy="171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87880" y="78408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032600" y="8201160"/>
            <a:ext cx="1695600" cy="171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6132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58:10Z</dcterms:modified>
  <cp:revision>3</cp:revision>
  <dc:subject/>
  <dc:title>Слайд 1</dc:title>
</cp:coreProperties>
</file>